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4B1-49C1-4F2B-B919-8D3D2C70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753-F32C-4550-912F-6BA77A40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775-2A56-46E3-893A-11460D9F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073-1372-4003-BD94-4E5C95BF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C294-943D-449D-920D-D9CE7723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D113-EA1E-4B4E-B73B-0265DE8C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155-0C2F-43F2-822F-F2860E5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7C72-D655-40EF-90F9-4728554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162A-2FBA-4E0C-8A97-184F1736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87B-C21E-43E7-BE42-0C0BA34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385-6EBB-4371-828B-A9D1CA5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EC6-5C4B-4792-A931-1F805554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780F-E5D1-4581-97CD-54C6CCC6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CDA2-3C0B-4B01-AA28-6C429A7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0FBF-FB43-4C73-BDF8-627AC8C7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8AF3-4E36-45D5-B6B2-442FB9CB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2E2-6E1B-4CDD-A1E8-C6A4E7B4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3D1D-EC70-40DF-9C16-5205F916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1BDF-92A3-4C3D-8D0E-9431F084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8DB5-E9A2-4DFE-BEAF-5AEAE97A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4701-6E5A-4114-880E-587838B5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B91A-6755-4784-B977-D9B3D528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296-91F3-4167-9C86-056844F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6F43-193C-4FEB-A73F-B0C17E8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643E-DFB5-44EA-862C-84B405C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6858-9258-4E00-95A9-DACE48D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5F17-7703-42FD-A36D-65C6A84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71BB-E2C7-4F8F-9FAE-4DC7EE2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E61F-6744-42DC-A98A-55CF0371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718E-EFD8-438B-B999-390A12D1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5BC4-5F0A-4C23-B91B-1D1849D5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981D-16CC-4013-AC27-76A002B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CF84-32BD-4DA1-A718-3042AE1F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F19-1939-4B98-B03A-D1E507B5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4A72-30C4-4FEA-AC2B-D670DC54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988E-0913-41C0-8126-85C1C195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05E4-7C77-463B-A920-3FF0241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E47E-1145-451F-9AB6-2545D87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ACBC-41A4-4EC2-BC9A-0F0D6F1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D8F9-0DCD-4A4C-AA2A-0A3DC49F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6C0D-CAD9-47C1-BD22-E0DF4EA4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735E-96F2-4BF6-A853-ED2E80D4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EAFB-36CE-4244-84E8-C3301296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AFA-8090-40EF-840B-33EEB8B2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703-14E8-4AD7-90FC-9600D6B4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D3F-72D9-470D-A921-765A94E1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BC3-2B0E-48B2-B2CC-9837DDC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34E-9C4F-436F-A646-BD97B66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18D-4BD7-422F-98EB-C2CDB1406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48D2-1F94-4BC5-B6FE-0570C1338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D99C-50EA-4B5D-9411-E855946F45B8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9D73-27F0-4437-B0EB-769D853A536A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Tema Proi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renume Nume Responsabil şi Membrii Grup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Cuprins: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roduc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upr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Închei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oncluz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Introducer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Cuprin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Încheier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e8edf2"/>
                </a:solidFill>
                <a:latin typeface="Tahoma"/>
              </a:rPr>
              <a:t>Concluzii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a8700"/>
                </a:solidFill>
                <a:latin typeface="Arial Black"/>
              </a:rPr>
              <a:t>Resurse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cf48c"/>
                </a:solidFill>
                <a:latin typeface="Trebuchet MS"/>
              </a:rPr>
              <a:t>Enumeraţi numele şi adresele site-urilor de resurs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2:26:21Z</dcterms:created>
  <dc:creator>Claudia</dc:creator>
  <dc:description/>
  <dc:language>en-US</dc:language>
  <cp:lastModifiedBy>Claudia</cp:lastModifiedBy>
  <dcterms:modified xsi:type="dcterms:W3CDTF">2007-11-04T12:36:38Z</dcterms:modified>
  <cp:revision>1</cp:revision>
  <dc:subject/>
  <dc:title>Tema Proiect</dc:title>
</cp:coreProperties>
</file>